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1388A737-661F-4169-BCCD-6C2664ED4940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06436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Timesheets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86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Timesheets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206064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2276640"/>
            <a:ext cx="1151280" cy="43308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3564000" y="4508280"/>
            <a:ext cx="1439640" cy="865080"/>
          </a:xfrm>
          <a:prstGeom prst="line">
            <a:avLst/>
          </a:prstGeom>
          <a:ln w="38160">
            <a:solidFill>
              <a:srgbClr val="3a0e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492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2276640"/>
            <a:ext cx="252108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ke sure the Email address is always vali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 Up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696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referred start-up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708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8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ctivity Timefram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2924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shee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806436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288000" bIns="108000" anchor="t">
            <a:no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o not change these colours due to preferred standard setting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3213000"/>
            <a:ext cx="1143000" cy="45720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 - 16.12.05 - jju - updated as BenQ template
Changed to Version 3.0 - 25 January 2006 - OSM</dc:description>
  <dc:language>en-US</dc:language>
  <cp:lastModifiedBy>Ole Sletting Madsen</cp:lastModifiedBy>
  <dcterms:modified xsi:type="dcterms:W3CDTF">2006-01-25T11:35:03Z</dcterms:modified>
  <cp:revision>17</cp:revision>
  <dc:subject/>
  <dc:title>Timesheet - User Preferences</dc:title>
</cp:coreProperties>
</file>